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4C3-4B67-45BC-BF77-842BB4F3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4BD-A444-44D5-B0C3-6CF712E7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16A-296E-4845-BFCF-32BEF3F2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3DA-D228-4274-83F0-4374B59C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3B09-FF39-49EC-914A-AA0128BB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5072-7651-41FE-8088-3D747EB3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29BA-5717-418F-89A4-96312D3E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0C25-C0DA-4EB1-BF14-473C6918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562D-9E36-4876-AD08-FAB5900D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BF98-59B4-4EBE-8E7B-81274A08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06DB-2FED-4CCE-8926-6B5A4B22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2A9-AF0C-413B-BAC5-B01BA7EF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84DA-F465-4C41-A56F-6FEB2F06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B7B8-207C-4FA4-9DD1-3488AA72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A857-3C26-4BE7-991E-55201F79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995D-BD56-4A64-97AF-18F4BFDA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877C-3769-4970-B613-4E92F006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BF2-73D5-4BFF-A252-1319046A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C99-7623-4728-B654-61CE3B53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721-9C9F-435A-BA7D-79CE85CF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36E-9F35-47F4-8FAA-2D018212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DEC-36C7-4BDC-9893-5E1F7D6C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455-9B8D-4C4E-898E-6B853873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AE9-D9CE-4B5E-A31C-4A881662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B7CC-2106-4DAE-8208-AF1787989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A228-C015-476C-A866-5B75C251AE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hyperlink" Target="http://www.youtube.com/watch?v=rZwZba26ri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Takahe on Kapiti Island. Photo: Brent Tandy."/>
          <p:cNvPicPr/>
          <p:nvPr/>
        </p:nvPicPr>
        <p:blipFill>
          <a:blip r:embed="rId1"/>
          <a:stretch/>
        </p:blipFill>
        <p:spPr>
          <a:xfrm>
            <a:off x="1476360" y="2305080"/>
            <a:ext cx="4824360" cy="3137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this bird?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ere would you find i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106720" y="560880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ahe on Kapiti Isl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ittle spotted kiwi thrives on Kapiti Island but is now extinct on the main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birds you are likely to see in the bush include kereru (NZ pigeon), North Island tomtit, kaka, whitehead, tui, fantail, long-tailed cuckoo (in summer only) and silverey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2-Kereruu"/>
          <p:cNvPicPr/>
          <p:nvPr/>
        </p:nvPicPr>
        <p:blipFill>
          <a:blip r:embed="rId1"/>
          <a:stretch/>
        </p:blipFill>
        <p:spPr>
          <a:xfrm>
            <a:off x="4857840" y="1785960"/>
            <a:ext cx="3336840" cy="250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_-Kiwi--"/>
          <p:cNvPicPr/>
          <p:nvPr/>
        </p:nvPicPr>
        <p:blipFill>
          <a:blip r:embed="rId2"/>
          <a:stretch/>
        </p:blipFill>
        <p:spPr>
          <a:xfrm>
            <a:off x="928800" y="1803240"/>
            <a:ext cx="300024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are these bird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4" descr="saddleback_1356"/>
          <p:cNvPicPr/>
          <p:nvPr/>
        </p:nvPicPr>
        <p:blipFill>
          <a:blip r:embed="rId1"/>
          <a:stretch/>
        </p:blipFill>
        <p:spPr>
          <a:xfrm>
            <a:off x="785880" y="1643040"/>
            <a:ext cx="4286160" cy="2924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406880" y="50133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ddle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1" descr="Kokako"/>
          <p:cNvPicPr/>
          <p:nvPr/>
        </p:nvPicPr>
        <p:blipFill>
          <a:blip r:embed="rId2"/>
          <a:stretch/>
        </p:blipFill>
        <p:spPr>
          <a:xfrm>
            <a:off x="5429160" y="1285920"/>
            <a:ext cx="2897280" cy="4645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9"/>
          <p:cNvSpPr/>
          <p:nvPr/>
        </p:nvSpPr>
        <p:spPr>
          <a:xfrm>
            <a:off x="6650280" y="6072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ka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bellbird"/>
          <p:cNvPicPr/>
          <p:nvPr/>
        </p:nvPicPr>
        <p:blipFill>
          <a:blip r:embed="rId1"/>
          <a:stretch/>
        </p:blipFill>
        <p:spPr>
          <a:xfrm>
            <a:off x="571680" y="500040"/>
            <a:ext cx="4995720" cy="3238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932120" y="40719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llbi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Kaakaa--"/>
          <p:cNvPicPr/>
          <p:nvPr/>
        </p:nvPicPr>
        <p:blipFill>
          <a:blip r:embed="rId2"/>
          <a:stretch/>
        </p:blipFill>
        <p:spPr>
          <a:xfrm>
            <a:off x="3929040" y="2786040"/>
            <a:ext cx="4917960" cy="3281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7217280" y="2143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nz-robin"/>
          <p:cNvPicPr/>
          <p:nvPr/>
        </p:nvPicPr>
        <p:blipFill>
          <a:blip r:embed="rId1"/>
          <a:stretch/>
        </p:blipFill>
        <p:spPr>
          <a:xfrm>
            <a:off x="250920" y="189000"/>
            <a:ext cx="4701960" cy="3224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471960" y="476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th Island Rob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1" descr="stitchbird"/>
          <p:cNvPicPr/>
          <p:nvPr/>
        </p:nvPicPr>
        <p:blipFill>
          <a:blip r:embed="rId2"/>
          <a:stretch/>
        </p:blipFill>
        <p:spPr>
          <a:xfrm>
            <a:off x="3780000" y="2924280"/>
            <a:ext cx="4895640" cy="3384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2"/>
          <p:cNvSpPr/>
          <p:nvPr/>
        </p:nvSpPr>
        <p:spPr>
          <a:xfrm>
            <a:off x="2629440" y="58053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tchbi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36160" y="551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Tui"/>
          <p:cNvPicPr/>
          <p:nvPr/>
        </p:nvPicPr>
        <p:blipFill>
          <a:blip r:embed="rId1"/>
          <a:stretch/>
        </p:blipFill>
        <p:spPr>
          <a:xfrm>
            <a:off x="1187280" y="544680"/>
            <a:ext cx="648036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96720" y="11970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yal Spoonb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ka and ch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Colony-of-Royal-Spoonbills"/>
          <p:cNvPicPr/>
          <p:nvPr/>
        </p:nvPicPr>
        <p:blipFill>
          <a:blip r:embed="rId1"/>
          <a:stretch/>
        </p:blipFill>
        <p:spPr>
          <a:xfrm>
            <a:off x="0" y="0"/>
            <a:ext cx="5580000" cy="418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Weka-and-chick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666880"/>
            <a:ext cx="452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rds that can be seen around the coast include black-backed and red-billed gulls; white-fronted tern; variable oystercatcher; reef heron, and little, black and spotted shags. On the boat trip to and from the island you can often see gannets, fluttering shearwaters, and little blue pengu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Paradise-ducks"/>
          <p:cNvPicPr/>
          <p:nvPr/>
        </p:nvPicPr>
        <p:blipFill>
          <a:blip r:embed="rId1"/>
          <a:stretch/>
        </p:blipFill>
        <p:spPr>
          <a:xfrm>
            <a:off x="684360" y="0"/>
            <a:ext cx="3205080" cy="265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Korora%20-%20Blue%20Penguin"/>
          <p:cNvPicPr/>
          <p:nvPr/>
        </p:nvPicPr>
        <p:blipFill>
          <a:blip r:embed="rId2"/>
          <a:stretch/>
        </p:blipFill>
        <p:spPr>
          <a:xfrm>
            <a:off x="4427640" y="26028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Nth-end-hill-evening"/>
          <p:cNvPicPr/>
          <p:nvPr/>
        </p:nvPicPr>
        <p:blipFill>
          <a:blip r:embed="rId3"/>
          <a:stretch/>
        </p:blipFill>
        <p:spPr>
          <a:xfrm>
            <a:off x="5076720" y="2932200"/>
            <a:ext cx="2946600" cy="3925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5439600" y="33336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tle Blue Pengu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387440" y="136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dise du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684360" y="2922840"/>
            <a:ext cx="784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piti Island is the summit of a submerged mountain range created by earthquakes 200 million years a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one time, moa and kakapo wandered the valley that lay between the mountains to the rest of the mainlan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million years ago, most of this range was inundated by rising sea level. It was, for a time, part of a land bridge that extended across what is now Cook Strait. What remains is an island about 10 km long and 2 km wide of wind-blasted hillsides to the west and lush temperate rain forests to the sheltered e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Aerial view of Kapiti Island, looking north to south. Photo: Kevin L.Jones. "/>
          <p:cNvPicPr/>
          <p:nvPr/>
        </p:nvPicPr>
        <p:blipFill>
          <a:blip r:embed="rId1"/>
          <a:stretch/>
        </p:blipFill>
        <p:spPr>
          <a:xfrm>
            <a:off x="155520" y="46080"/>
            <a:ext cx="4129200" cy="255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ap showing location of Wellington region."/>
          <p:cNvPicPr/>
          <p:nvPr/>
        </p:nvPicPr>
        <p:blipFill>
          <a:blip r:embed="rId2"/>
          <a:stretch/>
        </p:blipFill>
        <p:spPr>
          <a:xfrm>
            <a:off x="6804000" y="0"/>
            <a:ext cx="174960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3997440" y="134136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Kapit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1983240" y="595008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www.youtube.com/watch?v=rZwZba26r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2:52:40Z</dcterms:created>
  <dc:creator>millerde</dc:creator>
  <dc:description/>
  <dc:language>en-US</dc:language>
  <cp:lastModifiedBy>Administrator</cp:lastModifiedBy>
  <dcterms:modified xsi:type="dcterms:W3CDTF">2009-12-06T09:06:33Z</dcterms:modified>
  <cp:revision>4</cp:revision>
  <dc:subject/>
  <dc:title>What is this bird?  Where would you find it?</dc:title>
</cp:coreProperties>
</file>